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F0A-30EF-4923-BBB5-7561ABE9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950-530D-49BD-8C9F-71700FCC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331D2-2934-4ABA-9AA0-CBE4E160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4FBCF-F93B-4F99-B343-FFBF204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C72B0-CC77-4F5F-A1AD-AD032E88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1164B-2222-4F68-8D1F-71C6998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5BC1B-8AAC-4DA6-AD30-57A63D4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43173-B99C-41FB-BFCA-4B79BC4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1BD86-EB78-4D39-9723-BCD15608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17858-2450-4DFF-9A1D-6D3285C7F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6311-07D9-4C49-BA99-03E2AD7F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1D9CD-E6BA-4E1D-98B4-32635126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DBC-85DF-45F2-99C9-476DC8D3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B7B9C-4011-4493-8002-82B9146F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2B24E-6FEB-48F1-BC08-EA867536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95043-A6F8-4467-9853-AD938A94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9A227-256C-4846-9462-32E32EB7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53726-20B4-4517-B672-BFE4CFCE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5CEE0-9549-4557-8BC5-AB06B97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E2B44-F9AD-4FAB-A6DD-2CE1D309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F336F-26C9-4697-A655-A5206A1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96EE2-8E47-44CF-9EB4-146921B5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CA184-1986-48AB-96C7-38707C65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D79-FCFA-4F12-B1E0-74631DCA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2A5CC-7D00-4E76-8067-8E4838E3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C101E-AF4D-46D4-A7CC-CAFA9C41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97659-1373-407F-AFCA-1B69C94C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2D320-6DC5-48E3-9685-7E0AE588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56E7E-63DB-48B3-9875-E2BA067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13CF6-39AB-42D9-AB54-6F343BB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2FA98-CF89-4CCC-91D2-75FD6603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EFC25-8B2D-4871-BC3C-FC80D4F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32EBF-D5F4-4D5C-B338-203069E8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65AFB-2C0F-48E0-AE2F-A0C318D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12E7-3C79-4ACE-A1E0-BD017123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53372-BC39-4289-87D0-E6D27617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9F44-8D3F-4BB3-AC25-651D03D4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B9A26-4B53-48EC-8480-CA9BF7BC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C0352-EABB-4FDD-8ABE-8A8C7443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B4750-A100-4B37-AF76-45E36E2C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26A35-CFCB-4AB5-983A-E6B9383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6C2DF-30E3-4A42-B141-B24BE3BC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D9F85-72B6-4501-A258-B2F6FF69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1DEAB-DF1D-41C0-8F32-92E2DFDD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53B66-B6AF-4DFF-8326-35889AC9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31D7-05D5-41FF-B3E0-DA9C3365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C4BFC-55E6-45EF-A892-268E862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153F-55F7-4C31-8885-5BB4BDB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AE49-B08E-4AB0-8F73-9F516FE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CFF9D-4869-45C5-938F-32F5383E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5CBF-020D-4BC7-BDE6-566AE790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BB8375-63AA-4AB7-8426-A7254840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9BD10-D743-431A-8BCA-25AD2721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27C2C-0B41-4DAA-B705-A264196B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9A2C6-CDA4-449F-B94E-BCE1F73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40D90-09E9-4D3D-9B68-97B4EC27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AC9F-450C-46D8-9734-A504801E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7EB7F-2CB8-42F5-A462-06542FEE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EB707-D33E-45B4-AAD8-DFF6465B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ED8EF-94F8-4E95-843A-AF2F9471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93A37-DF62-4C03-B506-A6EAE665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CB1F5-BE54-4403-9F21-B4D78CB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22BFF-E184-4AD7-8316-B7CB35A0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F40A6-E484-4FE6-B530-5427B959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1F3C3-40E9-47CF-91DB-ECF7B7C0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4C430-7A42-4BB5-B303-CAF53CC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71017-71BC-4730-AD05-1C0FBE08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C450-C6E1-445E-B03D-3932546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01D1A-AF24-4D63-9830-EE7635F4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CDC9B-FAA1-483A-9D0A-EA3EC9BC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CBA72-68D4-486B-AF79-39C21A74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BA375A-8438-40E9-A22E-18B52D74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0D56F7-76A0-42DA-B53D-724C603D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79EA6-DB98-420C-B2DF-745EBCD5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4A1DB-081E-42B7-9C39-E483CCE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86923-B961-4D05-9673-7DD5A933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D7992-936B-4BD3-8551-F59745A5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0FEB0-A32E-45C8-B4F2-0AA77C87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EE19-7BFD-4147-A458-F52E1FA7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6EB85-5105-4662-8710-884BBCFD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46BF1-DFE8-45FA-B7EF-9F7C00CC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9F081-A57E-4B39-A13F-9EDED14A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E9175-0143-4746-B918-A460A12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414A2-2CBF-4BEC-B9D1-81716E2C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7713C-3A7B-40BE-96A8-40B8F627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0A84E-1D8E-4F9D-85EA-3180C88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BE997-49C2-4AE5-9028-3827CDA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925DA-9953-46CD-83EB-6B38A61C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8A7D7-F8DA-4F78-AD60-250557D8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C58F-E53D-4976-AC94-E7FD955D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11EC6-8940-4E69-84FA-62EF3D73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A2D2D0-6797-4025-B723-838359BA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7BA6B7-AAE9-4C1D-A2F9-D6C0FCD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21B80-F4D1-4446-9A20-4923B03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7C9DC-7B40-4DC2-A166-5E6EF3B9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AF5A9-4D25-4B8F-AE81-F2BB763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29E78-33AE-4861-AB0E-1491D34D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E4EBD-068B-43C8-9877-38BCE27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FBCB9-0E7E-49F5-9001-787C5EF0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85565-6C99-4982-BEAC-1737A1B5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0BDB-1845-4AE5-80C7-750A2B4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106C8-5981-4A5E-B886-6F833C0B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B2050-AEC4-4CC8-A292-A6E940F9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1B0B69-4118-4F21-BC05-07C36B2D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2084D-2170-4EE2-88FD-8C7841A1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4FFEA-663E-4D5C-82F9-EDACD48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C3DB7F-21DA-4669-9B59-CC3CDB2C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965AF-7458-4EC8-86BC-9692195B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EDED27-01C9-4646-8D2F-CA01DB0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71EE5A-661E-4ECE-B9E2-9771F71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7A3800-C06D-4FD3-9190-C7C10559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CEB-666C-481C-8726-B27CF54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7AA4-13E0-4354-97FF-AB7E14C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696E0-DFA5-4FA3-A9AF-1285AFA3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436918-24F6-45CE-A0D6-0A576C5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875221-A83B-4453-830D-1FDDEDD7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35384-9EC5-4D72-B545-F3065153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7275A6-D71B-4748-AD41-F6FB3579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B1D90-71FA-4975-9AC6-EA1DC7E2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AA95D-8F6B-4C4E-BC2A-589DAAC6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3DAA6-DE01-449F-8CFF-D3D25389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7B470-3F1B-4C6E-A9AD-58E37B3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56FFE-B292-434B-BA56-99014D9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C158-4E7C-4DC3-851F-9D14ECDB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00C6A-2E41-487B-ACC0-9A629149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D4C995-A817-4B79-8496-C51F318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70AB52-21A5-4B53-8769-980B7636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526F8-4824-4E76-A1EC-9D6D9760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800B4-00F4-4495-93C0-7352F75A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8DFC4-E834-42D8-B121-C9AF454B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AC37AA-4175-4AF4-B302-8F798D30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B13913-0B9C-48E9-954B-0097EA53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013A0-2987-4C3C-874B-D25DFA24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6C9DB-C8B5-4282-912E-72EE532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A390-B557-42B0-B5DE-A0140C78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308F47-3DAE-441B-83BE-4C7716D8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11F9B-F8D8-4AF4-9744-CBBDD146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ED850-F652-4B6B-8098-2F2D95F8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4A2CA-8610-4DB5-9A54-61C5AC82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7DB64A-618C-42E4-AA5F-B89CA94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70F40-77DA-46EF-B13C-75761D5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534B1-992C-4C3D-A2ED-7B7A925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35A9A-49E5-43B2-912A-54177688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A9B71-DED6-46C4-BE6C-47904813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96D99-8696-4BBD-BE8E-C00142D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482-911A-494A-A3B4-AEBBD9A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23D7F-FE58-43D4-910A-D2286340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5D2F23-F419-48AD-938B-F0B35558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E0398-9C10-4798-BB8D-7851C47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F1AF40-9BEF-43C6-9026-9B367C24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24AC58-2296-416E-AB2C-9AE77638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14E41-A6D0-45D2-9176-E48229C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7DDA5-F0E1-40C9-9A53-33BC6B0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73D87-10D3-485F-87AA-ACBAA2A1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690C11-ED54-4C55-AD0D-02572972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AA50C-D4E1-4A1A-B3BD-AB3FD13B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F773-0E4D-4957-8AAD-B282E462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E5CF1-A678-431E-823F-D9577289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E3A7B-9A08-45E2-ABC0-3BBF9059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EF7DF-CE83-4179-B87E-03F38FE7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3EB9C-1649-42A0-8BBC-933014D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577F6-5617-4961-B300-CA5E5DE8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70D6D1-2DC0-4310-8B72-97E7DBE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9953D-33FA-4E91-A38A-833B4D9D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D78366-01F5-444A-8D7B-1E2E33E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31EC2-802D-401A-A9FD-4851BE1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53F74-B8C7-4498-AEFA-A576C7E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29E0-B03B-4F2E-9D9B-E43F85A8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7FDA2-AC36-4DF4-BA21-A988AD2A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2FD05-4EDD-4D73-9D87-553055C9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E30CF-3B80-4CC1-9BD5-B52F5BDC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3B3A3-7BB5-4087-A744-96257A9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96D6-5575-4B0D-8D0A-6E90872E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FA6D-28F8-4861-921A-642C7446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AB86-A55C-4EB4-8610-EE673D2D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BE3-4387-42F5-A5D6-680EF08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46AA0-0941-4019-9E18-50E7E7C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AACB-94CF-4B32-9A52-FE74D210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1876-7EBE-4AAA-9196-58911900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9C00-C6CC-41F6-9983-B7D1A8A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DDAD-2CBB-4683-8689-CF174338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B08F-BEFB-401E-A485-81A5BCCE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A275B-B051-45BE-8B4C-152B2E90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8CA1-89D0-45D4-807F-093BDCE3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3267-6F23-43AB-BDE1-5E22976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39DF-1368-42FC-BB55-C487303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4EF-1BDD-4172-9007-43BFFAE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E9C2-F02D-45FD-BF0A-C43FA4FC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6CEA-504E-4391-851D-6B93972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CBE34-4625-417A-88D2-67D40DB1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5038-314C-4B04-8865-60A92E5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DA86-651D-417A-A883-1082CF64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AE528-B31C-42C1-A206-AF24EBC4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9451-9DE0-4324-B01A-84473996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C7BB-659B-4F1B-A401-1B44CB4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07C7-62DF-41BC-BF11-9AA4CF09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78E9-8A85-4E65-8FAB-3F5DF35F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935-31B9-413B-8491-273985DA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98E9F-CE0C-4581-A19B-590318C3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6350A-D1A7-4AFC-A53D-ECE743E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01A4-92DE-4256-8C81-79FD0F05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149C-D573-4CA3-8FB8-165F6537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2604-E9AF-4E90-9619-D4F79819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84BD7-D4AC-4574-8CDA-6A0DDD0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58C0-FAFB-4F10-84D0-1229781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4C2C-3092-4621-99D1-62CE218E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E53E3-B2D2-4FF2-B7C1-A67AD478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1C44-DF85-42C8-8DA4-BF0F65A4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707-E56D-411D-883F-F4DD8921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B81BA-228F-4A85-82AB-30693F9D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722BF-5C8D-4FF0-B65E-38A732FD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419A-C6E3-47C8-8B22-147F75BF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58D7D-4A8E-4096-879F-A0FDFA7B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3B81D-09EC-4BAD-8662-ADA22A0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E8902-4D7E-497F-B8F2-ECB4E6F8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D5771-5294-4B1F-8E18-04ED53EA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6E175-3B7A-4998-AB67-6A474534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4D3B-9A33-448A-90A7-06CC6DE7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DB60-92F3-44D7-9577-A3A09C3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2D4-54B1-4818-8542-12391A4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33E6-57AF-4EFC-BCF1-A0DA44A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C18A-EDF3-4D6A-8465-B966A0E4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60FE-8D03-44DB-97C4-262E04B6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57D40-14CE-4C2C-A961-1D0B086B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86126-0ABC-4EFA-B621-F3D56C8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B97C-0A88-4C50-A2A2-526DA79D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1F44-433D-4EC1-8001-632761E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6E96-BD97-43F6-997E-7D7E425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B8C4-5150-43DC-A19A-8DFE5790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557F-9F70-4673-AF97-79521459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A7A-98E9-4E43-BC86-233448F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916E1-2139-4C46-8735-ADF0420D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1D30-0B75-4F07-AB33-9D0FF20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5B232-1C1D-4AB4-9F1F-300B92BE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5997-A818-48E4-A6DE-03B45760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AFE2-53EA-491B-9BE1-A6AB0583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E22E1-FCF6-406A-AE54-A3E1833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9CC6-6A10-4C15-983B-483FB9F9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CD56E-8283-4922-8082-DA2CA4D2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4FFD-CDC2-49DC-B445-57E4EB94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1F63-D99F-430E-BB76-B0ED7094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649-CD98-41EF-B90B-C9AFB8FA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C1D2E-05B4-4438-AC49-2B3FED7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FE7DB-516B-4457-91C0-265DD6B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F777-6FD2-4AEC-8295-BB61BB3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7D173-26BC-4366-9B10-2867BB9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418FE-8F1A-440C-B7A4-9705365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12A11-1980-4EA8-A204-622759EF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E070C-AC74-4432-BD05-8EA80D1F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C34D7-C587-46F0-A34D-ED50D5CA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EF398-77CA-417D-B12F-E14A96C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17776-ECDC-4CCA-B563-AF46047E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DC8A-10A7-4967-A864-E24158A043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677-0877-4E50-B3E3-90F3F7268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92D0-318C-4666-AB77-3DD55E5A4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115D-3267-4285-8A36-11A45524D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BC7-A73E-4E4D-9BFC-029ADBC2E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F295-CDC1-4C13-B2B6-2AB210C93A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5A10-711B-4C83-A506-F64800365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8CE7-5EE8-4F37-94A4-1068D306FB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BF12-058D-40AD-8C93-79815B2FEB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79C-13DA-4E31-BB08-D3D67AB716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748-1A17-40EB-BB9E-870A1FBB1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52E-0879-48CC-AB44-B7FCCDC2CD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93EF-816A-4322-91E3-1C8974F9C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4E85-F5F6-4F36-B6B0-AE1A70B944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25A-4530-4D0E-8C61-BCCDD403F7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4961-03DF-46E7-80DF-DAE82D1CC4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34FB-BF53-4590-8122-0941A2C4B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424-27EB-40B3-91FB-BD21BC684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6E21-6649-438E-88E5-2F1873284D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1C4F-5911-47E2-8500-18E90D839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E3C2-72C2-4463-A822-723622E76A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36D0-CE7E-4823-8DA0-D32A1CE602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8A8-D0D0-45E3-BCD6-D31DF0FA7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80C-C8B9-4AF3-98EC-F106BBE73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6B76-6978-4540-8827-8DF5B554E4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FB9-1C59-483D-B50C-B8BF1ADFD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E12C-4CA3-4F9C-B943-C64514C4B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4D51-D063-4B43-B8E8-73EBC17B89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FB43-C4A5-4C3A-8D0D-69885CDBD5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36E6-9D76-4F8D-83C4-FBA56AA1EB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292-046D-40AB-AD0B-7AAB0C5917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7552-0A87-49C1-9775-E00DADF6F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4AC-750D-49E8-BE42-06F3C746AE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B5D-1DF3-49E0-8DC5-F7F229074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3F4-9562-4508-912C-AA8E8FB0B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2E3C-0790-4880-ADBE-2875B6B7AB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E430-B276-4745-90BB-D69419C54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BA87-B7E6-4BD3-B8AF-45B8F0B40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2A13-04A8-4B30-90CA-BED457E4C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D57-FD63-46F7-BC45-AAD55C5FB2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0680" y="3191040"/>
            <a:ext cx="456264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33200" y="866880"/>
            <a:ext cx="8877600" cy="5124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81000" y="244944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981000" y="278136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81000" y="351468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81000" y="384660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03640" y="244944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203640" y="278136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203640" y="352908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3203640" y="386064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5435640" y="2449440"/>
            <a:ext cx="927000" cy="257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5435640" y="2781360"/>
            <a:ext cx="927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445000" y="3514680"/>
            <a:ext cx="92736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5445000" y="3846600"/>
            <a:ext cx="927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7308720" y="2449440"/>
            <a:ext cx="92736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7308720" y="2781360"/>
            <a:ext cx="92736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7308720" y="3529080"/>
            <a:ext cx="92736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7308720" y="3860640"/>
            <a:ext cx="92736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468360" y="4743360"/>
            <a:ext cx="237492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468360" y="5075280"/>
            <a:ext cx="23749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468360" y="5348160"/>
            <a:ext cx="237492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468360" y="5680080"/>
            <a:ext cx="23749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9410" descr=""/>
          <p:cNvPicPr/>
          <p:nvPr/>
        </p:nvPicPr>
        <p:blipFill>
          <a:blip r:embed="rId1"/>
          <a:stretch/>
        </p:blipFill>
        <p:spPr>
          <a:xfrm>
            <a:off x="957240" y="2738520"/>
            <a:ext cx="7229520" cy="1380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6012000" y="2919240"/>
            <a:ext cx="21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5940360" y="3232080"/>
            <a:ext cx="2160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012000" y="3548160"/>
            <a:ext cx="21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160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171360" y="909720"/>
            <a:ext cx="8801280" cy="5543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755640" y="192564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11280" y="222408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755640" y="254952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11280" y="284796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684360" y="3735360"/>
            <a:ext cx="3168360" cy="257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539640" y="403380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684360" y="4354560"/>
            <a:ext cx="316836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539640" y="4653000"/>
            <a:ext cx="316872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539640" y="5661000"/>
            <a:ext cx="1224000" cy="2570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1773360" y="5661000"/>
            <a:ext cx="115236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2987640" y="5661000"/>
            <a:ext cx="1584360" cy="2570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3"/>
          <a:stretch/>
        </p:blipFill>
        <p:spPr>
          <a:xfrm>
            <a:off x="539640" y="5969160"/>
            <a:ext cx="3024360" cy="2570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4"/>
          <a:stretch/>
        </p:blipFill>
        <p:spPr>
          <a:xfrm>
            <a:off x="8182080" y="31417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5"/>
          <a:stretch/>
        </p:blipFill>
        <p:spPr>
          <a:xfrm>
            <a:off x="8182080" y="35733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6"/>
          <a:stretch/>
        </p:blipFill>
        <p:spPr>
          <a:xfrm>
            <a:off x="8101080" y="396252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17"/>
          <a:stretch/>
        </p:blipFill>
        <p:spPr>
          <a:xfrm>
            <a:off x="8091360" y="436572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8"/>
          <a:stretch/>
        </p:blipFill>
        <p:spPr>
          <a:xfrm>
            <a:off x="8397720" y="4797360"/>
            <a:ext cx="28764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9"/>
          <a:stretch/>
        </p:blipFill>
        <p:spPr>
          <a:xfrm>
            <a:off x="8523360" y="51768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0"/>
          <a:stretch/>
        </p:blipFill>
        <p:spPr>
          <a:xfrm>
            <a:off x="8513640" y="5599080"/>
            <a:ext cx="2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1"/>
          <a:stretch/>
        </p:blipFill>
        <p:spPr>
          <a:xfrm>
            <a:off x="8647200" y="603108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53:4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